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86D1-443C-4FC6-848A-3BF70C372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1A65-43BB-4751-AA28-77CC3A267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: Tonic is the first tone of a musical scale; Linguistics: Tonic is syllable of maximum promin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D7A-E055-4324-B862-41CFCA86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75D-2A4D-43C6-9DD0-46795E63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4A7-AFC5-4887-8813-E9D0F5C9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85D-CB88-43F2-9F1D-14F44E18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168F-EA9E-431B-9DA1-7AAE786C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87E4-1D32-4952-A637-8FB273CE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9628-957C-4B50-88CD-5C19CDD2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4CAB-AC42-4A0D-9797-6122AE83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F973-4C53-43AD-9F39-352C50B2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3F64-907A-4193-96DA-872CD6B5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8E71-A687-4AF1-BD32-942C74EE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45A-A933-458C-876E-ECC3F2EB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32CE-A4A5-4124-8180-290060FC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1C9B-138F-4287-9913-9D33CD48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B5D1-6F9B-42D5-B26D-D9EE6AE7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338F-36EF-452A-8C3B-E29BED1F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0163-4F66-4F7F-B42C-E3741627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506-BA6B-4F9F-917F-B8DB1E39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444-1254-414B-AAD5-46B136B4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FFC-287E-43B2-8A11-723C71B5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017-F0FA-4464-84F0-B2EDDC7E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8D2-E636-4922-B2E6-CB738625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3CB-35FC-4830-8BB5-F5C67B79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3BE-71E2-488B-975E-493263D5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4DD1-623D-4A28-A3F0-F467D4AE55A6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324C-DDC4-4CCB-A077-AD6605CB44A2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The Origins and Development of the English Language Chapter 10: Words and Meaning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Alg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ael Che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Chengchi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hange of Meaning: Etymology and Meaning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adicate from L radix =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from L calx =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husiastic from G theo =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e from L virtus = manl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don’t have fixed meanings. Meanings are variable and change from their etymological orig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hange of Meaning: How Meaning Change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s change in fields that are rapidly expanding and devel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mark, book, floppy, mail, mouse, notebook, save, server, spam, surf, virtual, virus, wallpaper, web, window, 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hange of Meaning: How Meaning Change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is not chao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– denotation, literal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s – conno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her, dad, the old man, daddy, governor, pa, pappy, pater, pop, pops, s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e can expand (generalization), contract (specialization), or shift (transfer of mea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ons can become worse (pejoration), better (amelioration), weaker or stro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Generalization and Specialization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ope of the word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ization – extended or wide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he number of features in its definition that restric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ation – restricted or narr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to the features of its meaning to reduce its referential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Generalization and Specialization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Gener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il: hairy caudal appendag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udal appendag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st part of somet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: place to grind grain to make m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n: Barley 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Generalization and Specialization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Spec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n: grain – oats, 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id these words specializ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qu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ransfer of Meaning: Metapho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phor: Extending the meaning of something to other similar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day, a shor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of a conversation, space of an 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 of an animal, foot of a mountain, foot as a measure of the length of a typical 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ransfer of Meaning: Metapho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nymy: naming something with the name of something associated with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hite House, Langley, Mother Tongue, Broadway, The Crown, the 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ecdoche /sɪˈnɛkdəki/ : a part is used to refer to the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, earth, wheels, hungry mouths to fee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Hancock, Coke, Kleenex, Plastic, Pigskin, Iron, Rubber, Thermos, Old Blue Eyes, I need a pair of hands, L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y keels ploughed the deep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 the metaphor, metonymy, and synechd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Synechdoch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0" name="Picture 7" descr="fox_sinatra"/>
          <p:cNvPicPr/>
          <p:nvPr/>
        </p:nvPicPr>
        <p:blipFill>
          <a:blip r:embed="rId1"/>
          <a:stretch/>
        </p:blipFill>
        <p:spPr>
          <a:xfrm>
            <a:off x="5229360" y="1752480"/>
            <a:ext cx="3178080" cy="403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stacy-keibler-dancing"/>
          <p:cNvPicPr/>
          <p:nvPr/>
        </p:nvPicPr>
        <p:blipFill>
          <a:blip r:embed="rId2"/>
          <a:stretch/>
        </p:blipFill>
        <p:spPr>
          <a:xfrm>
            <a:off x="1325520" y="1752480"/>
            <a:ext cx="329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ransfer of Meaning: Metapho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esthesia: meaning transferred from one sense to another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 sound, loud color, sweet music, sweet person, sharp cheddar cheese, warm color, warm or cold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Number of Words in English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has a huge 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000,000 wo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lf a million in unabridged diction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,000 words in an English college 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,000 words in French or Spanish 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ge graduate may be able to use about 60,000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75,0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ransfer of Meaning: Metapho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meaning from concrete m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= stand clos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= am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tehen ‘to stand befor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hendere ‘to take hold of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has a good grasp of his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ransfer of Meaning: Metapho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ive to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iful: full of p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erving of p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to Su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r: dang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Transfer of Meaning: Association of Idea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, Paper, Pu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, Virus, Cr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b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, Tur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Transfer of Meaning: Transfer from Other Language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languages can affect the meaning of English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English: assembly, court of law, legal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in 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: object, possession, business matter, legal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Transfer of Meaning: Sound Association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ity of sound can affect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y (from OFrench fae) = fai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y (from OEng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æ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) = fated, doomed to 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y: www.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eedictionar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or displaying an otherworldly, magical, or fairylike aspect or quality: "She's got that fey look as though she's had breakfast with a leprechaun" (Dorothy Burnha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visionary power; clairvoy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ing touched or crazy, as if under a spe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Transfer of Meaning: Sound Association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ng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 changes due to confusion based on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some praise: excessive or insinc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uition: enj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fruit, compl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uitous: occurring by ch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u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Pejoration and Amelioratio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 the association of the value of th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joration is wors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lioration is improvement of the value of a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Pejoratio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ian vs. Legislator or Se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ave: 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r: peas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wd: lay, not cle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ulgar: the common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sure: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ism: analysis,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erts: what you de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ly: timel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pp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nocent,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Amelioratio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ise: put a value on something (apprai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e: ignora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mp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ight: ser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: man, war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aboo and Euphemism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oo: something you can’t talk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phemism: Greek ‘good sounding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placement term for a taboo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tically correct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oo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gn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r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Reaso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ve contacts with othe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number of language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purposes for which it i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stock is constantly gr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Intensifying Word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intensifying word becomes too common, the force of the word wear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used to mean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ery heart of the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ery thought of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E: 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</a:t>
            </a:r>
            <a:r>
              <a:rPr b="0" lang="en-US" sz="4000" spc="-1" strike="noStrike">
                <a:solidFill>
                  <a:srgbClr val="000000"/>
                </a:solidFill>
                <a:latin typeface="Charis SIL"/>
              </a:rPr>
              <a:t>ð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: full, right (right away, right t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e (sore afra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Intensifying Word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s for very: awfully, terrib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had an awfully pleasant ev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’s terribly n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s for too: that, all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’m not that t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’s not all that excited about the tr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ome Circumstances for Semantic Change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can vary by the groups that us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rt: intelligent, fashio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change because the thing it refers to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ll, b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 changes because of a shift in point of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scent, vete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ome Circumstances for Semantic Change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d word becomes pop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 becomes less ex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: love of wis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: aberration resulting from suppressed e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Riddl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n and his son get in a car accident. The father dies instantly, and the son is rushed to the hospital. A doctor sees the boy and says, "I can't operate on this child; he's my son.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ome Circumstances for Semantic Change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and Semantic Ma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ked: sh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d: ram, e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to talk about humans without reference to s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as can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are mortal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have shorter lives than women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have achieved great discoveries in science 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ma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ir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a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my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opers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ma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pervi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wardes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light attend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usewif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usespo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New Swedish Pronou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 =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 = s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 =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 = gender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speak in a gender neutral manner in English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Prominent new words of 2007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ronaut di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n &lt; Spam &lt; Pressed 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ny collapse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ding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weirding &lt; Global wa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nal prof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s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nja lo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Some 2011 buzzword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cktiv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ab Sp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mege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What can you do if you need a new word?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 a word that they already use by changing the m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one up (Chapter 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row one from another language (Ch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hange of Meaning: Variable and Vague Meaning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words vary in meaning with place, time, and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: tonic (medicinal tonic, tonic w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: disinterested (before=impartial; now= not interes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tion: tonic (drink, music, lingu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hange of Meaning: Variable and Vague Meaning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words have meanings that are subjective and va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’s a nice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have had a very nice ev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hange of Meaning: Etymology and Meaning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ople believe that the original meaning of a word or the roots of a word give the “correct meaning” of th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 change often alters the etymological sense of a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dilapid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is = L.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it only describe stone struct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6:29:59Z</dcterms:created>
  <dc:creator>USER</dc:creator>
  <dc:description/>
  <dc:language>en-US</dc:language>
  <cp:lastModifiedBy>Michael</cp:lastModifiedBy>
  <dcterms:modified xsi:type="dcterms:W3CDTF">2014-05-08T21:16:30Z</dcterms:modified>
  <cp:revision>11</cp:revision>
  <dc:subject/>
  <dc:title>The Origins and Development of the English Language Chapter 10: Words and Meanings</dc:title>
</cp:coreProperties>
</file>